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C6DC-37E4-477A-A0C1-50BF9E7E358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D2CB-A453-4662-9807-E86F837AA51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6FD-0FE0-4E18-A711-206EDBBC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E83-E65B-46CB-9DBD-35C022B6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29B-9728-4648-B763-6B86CEFE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DE7-3357-46C2-BBC2-B7567A56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2D86-6973-436D-AEA1-01642BD8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F93A-9CE7-4D7B-883B-2E27E498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D6DE-3C3A-472C-9675-9FE0A802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5B12-E5A8-4679-AAA8-1DB87AB5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A68D-6995-4982-8E29-79D628CF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FA8D-41AC-469B-B0D2-4D090E77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BF35-8350-42EC-8F2D-92D776BA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410-EBD5-4CB7-81F4-80F5931D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352E-342A-4E9F-8923-0B9C634D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1235-BB48-4A9A-AC72-8601B03E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9D93-99D2-45B7-9819-9DDABEC4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F526-1666-4DD6-85F5-59E62309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6468-5233-47C6-9443-C1D3055E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9A1-14B8-40E6-AC94-FDB1DE6F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408-D678-4B51-8B70-5FB21649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98A-6859-4121-B015-904F34DE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C30-9598-44D5-963C-BC25423E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1E4-2C40-49CF-9FE9-675531FB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A50-03E4-4184-B864-482A6D4C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ABE-EC6B-4E98-B889-92611AD0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965A-92C2-4BB9-8AF8-67DBA812028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2" descr="Logo NSRF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88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B2DB-A71C-4ABE-8CD0-BA813DCE81E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0" y="1052640"/>
            <a:ext cx="9144000" cy="7272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6524640"/>
            <a:ext cx="9144000" cy="7308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0" descr="Logo NSRF"/>
          <p:cNvPicPr/>
          <p:nvPr/>
        </p:nvPicPr>
        <p:blipFill>
          <a:blip r:embed="rId1"/>
          <a:stretch/>
        </p:blipFill>
        <p:spPr>
          <a:xfrm>
            <a:off x="0" y="1089000"/>
            <a:ext cx="4932360" cy="5399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2"/>
          <p:cNvSpPr/>
          <p:nvPr/>
        </p:nvSpPr>
        <p:spPr>
          <a:xfrm>
            <a:off x="4932360" y="2205000"/>
            <a:ext cx="4211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5580000" y="47530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4932360" y="1644480"/>
            <a:ext cx="42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пция относно цели, приоритети и мер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бластта на административния капац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техническата помощ, които да бъдат финансирани през програмен перио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4-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5651640" y="56624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Ирена Първан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Директор на дирекция ОПТ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Функционираща система за управление на средствата от ЕС в съответствие с принципите на доброто управ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1.Мерки, свързани с осигуряване на ефективно, ефикасно и регулярно изпълнение на политиките свързани с усвояване на средствата от СКФ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държане, развитие, оптимизиране и гарантиране на устойчивост на системата за управление, координация, мониторинг, контрол и одит на средствата от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крепа за изпълнение на стратегически дейности на системно ниво, свързани с използване на средствата от СКФ на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игуряване на информация и публичност за средствата от ОС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Мерки, свързани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витие 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усъвършенстване на информационните системи за управление на средствата от ЕС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ерки за поддържане, развитие и допълнително усъвършенстване на ИСУН 202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условия за функциониране на ИСУН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Транснационално сътрудничество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сърчаване на взаимното обучение, с цел повишаване ефективността на политиките, подкрепяни от ЕСФ, като включва партньори от най-малко две държави-чл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Мерки за обмяна на опит и експерти, координиране на съвместни действия в отделни области на взаимодействие, обмен на информация и добри практики за прилагане на принципите на добро управ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НОГОФОНДОВО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ФИНАНСИРА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ост от обвързаност и интегрираност на мерките с цел , постигане на синергия и цялостен резултат от прилагането 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ост от една обща политика и стратегия, съчетаваща в себе си мерки свързани с повишаване на административния капацитет на публичните институции и съдебната система, както и гарантиране на ефективността и устойчивостта на системата за управление на средствата от 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Благодаря за вниманието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165720"/>
            <a:ext cx="22334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„Европа 2020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цифрова Европа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нкретни препоръки по страни (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Елементи за Обща стратегическа рамка за периода 2014-2020 (работен документ на Европейската коми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зиция на службите на Европейската комисия за подготовката на Споразумението за партньорство и програмите в България за периода 2014 – 2020 (проек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на Европейския парламент и на Съвета за определяне на общоприложими разпоредби за ЕФРР, ЕСФ, КФ, ЕЗФРСР и ЕФМДР, обхванати от Общата стратегическа рамка, и за определяне на общи разпоредби за ЕФРПроект на регламент за Европейския социален фонд (ЕС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за Европейския социален фонд (ЕС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за Европейския фонд за регионално развитие (ЕФР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Доклад на Европейската комисия до Европейския парламент и Съвета относно напредъка на България по Механизма за сътрудничество и проверка (18.07.2012 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националн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за развитие „България 2020“ (Н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за реформи Европа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нвергентна програма на Р България 2012-2015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развитие на държавната администрация до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овационна стратегия за интелигентна специ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бща стратегия за електронно управление 2011-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„Цифрова 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и националн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лан за намаляване на административната регулаторна тежест з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ктуализирана стратегия за децентрализация 2006-20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продължаване на реформата на съдебната система в условията на пълноправно членство в Европейския съюз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ждинна оценка на НСРР 2007 –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ждинна оценка на ОП „Административен капацитет“ 2007 -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Обща стратегическа це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492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вишаване ефективността и ефикасността на публичната администрация и съдебната система за провеждане на политики и предоставяне на услуги на гражданите и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: Модернизиране на управлението за предоставяне на висококачествени публични услуги за гражданите и бизнеса. Повишаване ефективността на администрацията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Повишаване на институционалния капацитет на публичната администрация за провеждане на политики и предоставяне на качествени и интегриран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1. Мерки, свързани с провеждането на политики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обряване на процеса по разработване и провеждане на политики и интелигентно регулиране за намаляване на административната теже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на организационното развитие за ефективни административни структу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усъвършенстването на политиките за развитие на човешките ресурси и въвеждане на практики и стандарти за тяхното упр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участието на гражданското общество при разработването и прилагането на поли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Председателството на Р България през 2018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: Модернизиране на управлението за предоставяне на висококачествени публични услуги за гражданите и бизнеса. Повишаване ефективността на администрация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2. Мерки, свързани с предоставянето на интегрирани административни услуги, включително електронно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витие на съществуващата и изграждане на нова информационна инфраструкту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веждане на нови и подобряване на съществуващите услуги, включително тяхното интегрир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ишаване на информираността на гражданите за дейността и отговорностите на държавните институции и предоставяне на публичен достъп до съответните бази дан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 : Осигуряване на качествена и независима съдебна систем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Продължаване на реформата на съдебната система и повишаване на нейната ефективност и ефикас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. Институционални ме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крепване на капацитета на правосъдните и правоприлагащите орг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ишаване на квалификацията на магистратите, съдебните служители и разследващите орг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2.Мерки, свързани електронно правосъд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недряване на информационни системи, ориентирани към обслужването (електронно правосъд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ъздаван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 стандарти за обучение в областта на информационните технологии, специализирани за магистрати и съдебни служ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5:28:34Z</dcterms:created>
  <dc:creator>Milena Pehlivanova</dc:creator>
  <dc:description/>
  <dc:language>en-US</dc:language>
  <cp:lastModifiedBy>Ирена Първанова</cp:lastModifiedBy>
  <dcterms:modified xsi:type="dcterms:W3CDTF">2012-10-16T07:09:36Z</dcterms:modified>
  <cp:revision>245</cp:revision>
  <dc:subject/>
  <dc:title>НАЦИОНАЛНА СТРАТЕГИЧЕСКА РЕФЕРЕНТНА РАМКА</dc:title>
</cp:coreProperties>
</file>